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665-65BE-4DC1-B1F3-7C10D95E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4240"/>
            <a:ext cx="863928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2496-2E3A-430C-8652-4DE60533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424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000" y="413424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A17-AEA7-4EE4-A118-365A5A71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278172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760" y="2160360"/>
            <a:ext cx="278172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3160" y="2160360"/>
            <a:ext cx="278172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4240"/>
            <a:ext cx="278172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1760" y="4134240"/>
            <a:ext cx="278172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3160" y="4134240"/>
            <a:ext cx="278172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B87-FACB-4461-A2FC-B7BFBA09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2160360"/>
            <a:ext cx="86392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E3C-61DB-41C9-A507-89851349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1C3-68A9-4459-A062-D5893A99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2EF6-2AFE-4E43-8685-27FAAA47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5A8A-6745-4B58-B489-702E4508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301320"/>
            <a:ext cx="8639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E192-1B6B-4017-A602-FC2E4F59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424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ACDE-62AF-4F5C-953E-96305E78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000" y="413424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9F6-3AF5-4E8A-825F-2800BE5A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4240"/>
            <a:ext cx="863928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D94-E77E-46D5-A105-141CD218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30132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2160360"/>
            <a:ext cx="86392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346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346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6640" y="634680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311B5-4EBA-4C88-9FCF-FC89DB693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AUTOMOBILES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EVINEZ LA DECENNIE...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1969 DODGE CHARGER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E GENERAL LEE...DUKES OF HAZARD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240" y="2232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FORD 1931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60360" y="360360"/>
            <a:ext cx="8999640" cy="661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DODGE STEALTH 1990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60360"/>
            <a:ext cx="9720360" cy="684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HEVY NOMAD 1957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9640" y="-179280"/>
            <a:ext cx="10079280" cy="750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PORSCHE 1980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9360000" cy="684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STUDEBAKER 1950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9539280" cy="684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1980 TRANS-AM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'EST KIT DE L'EMISSION KNIGHT RID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360360"/>
            <a:ext cx="9899640" cy="684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4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1970 VOLKSWAGON BUG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16080" y="360360"/>
            <a:ext cx="9043920" cy="64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720" y="30168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1934 DUSSENBERG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86407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9539280" cy="684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5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2:36:55Z</dcterms:created>
  <dc:creator/>
  <dc:description>Template created by Sun Microsystems</dc:description>
  <dc:language>en-US</dc:language>
  <cp:lastModifiedBy/>
  <dcterms:modified xsi:type="dcterms:W3CDTF">2011-09-11T14:12:09Z</dcterms:modified>
  <cp:revision>12</cp:revision>
  <dc:subject/>
  <dc:title>Sunrise Pattern</dc:title>
</cp:coreProperties>
</file>